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C581-2C0B-48D3-8094-42F920C419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3A67-B1C4-4481-A45D-494A425D98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A66E-7EBE-40AE-A4FC-497D728E7C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com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DCFE-2CAA-4849-8D8D-348ECD21ED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rease exposure to language in use to allow  incidental learning  and generative proces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us encourage some direct lear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5DC7-0316-4143-BE18-1F9E61D817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8C09-F276-4CB3-8DD3-4177224D65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297A-F219-460B-B5F5-764C29040C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CE37-A57B-4C41-9D11-7CC4529EA5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cher –led tasks – mind-maps – rapid vocab building - phr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ding for a purpose – whose questions have been answer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ycling topic vocabulary – spaced re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rpose for re-reading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eating and telling their own version – time to plan – to enrich their language before going public – ‘pushed output  Sw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8E51-5363-4DE4-B268-26548FD634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6805-7EEF-4294-A2AF-B19CC33725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98DD-3573-45D0-92EE-CF79C68915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E18D-48E4-451A-99ED-9B048219D2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FFCD-9E47-4DF2-81FC-4F981FD821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9C99-7409-4186-8987-FE2710D0B0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A4C8-74DF-4BB1-B968-8D240ED552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3862-9E18-4E12-B62F-E94110BD94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366E-45D3-4965-BF81-4A84B10FB0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2182-837F-4042-B793-3D504A1D33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8A99-0B14-49A2-8C4C-70ADFD7B9B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FB1F-CC0D-4CC1-913C-E1F1F6D342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4B04-1F90-4A47-B1D9-1E0218B1C5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D5E5-8602-467E-B554-6DCC077F69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369B-F27A-4ABA-A815-FA40B18BCF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CB1E-4918-4EFB-9F1B-86BD424DFB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C280-D456-44F5-9D68-0EEC8AF546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180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032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5364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180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032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53640" y="563400"/>
            <a:ext cx="75661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180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032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5364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180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032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53640" y="563400"/>
            <a:ext cx="75661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8"/>
          <p:cNvSpPr/>
          <p:nvPr/>
        </p:nvSpPr>
        <p:spPr>
          <a:xfrm rot="10800000">
            <a:off x="8423280" y="1341000"/>
            <a:ext cx="720720" cy="863640"/>
          </a:xfrm>
          <a:prstGeom prst="rtTriangle">
            <a:avLst/>
          </a:prstGeom>
          <a:solidFill>
            <a:srgbClr val="008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0" y="0"/>
            <a:ext cx="9144000" cy="1454040"/>
          </a:xfrm>
          <a:prstGeom prst="rect">
            <a:avLst/>
          </a:prstGeom>
          <a:solidFill>
            <a:srgbClr val="008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8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5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lvl="1" marL="743040" indent="-285840">
              <a:lnSpc>
                <a:spcPct val="108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5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lvl="2" marL="1143000" indent="-228600">
              <a:lnSpc>
                <a:spcPct val="108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5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lvl="3" marL="1600200" indent="-228600">
              <a:lnSpc>
                <a:spcPct val="108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5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lvl="4" marL="2057400" indent="-228600">
              <a:lnSpc>
                <a:spcPct val="108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5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lvl="5" marL="2057400" indent="-228600">
              <a:lnSpc>
                <a:spcPct val="108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5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lvl="6" marL="2057400" indent="-228600">
              <a:lnSpc>
                <a:spcPct val="108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5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9"/>
          <a:stretch/>
        </p:blipFill>
        <p:spPr>
          <a:xfrm>
            <a:off x="171360" y="6164280"/>
            <a:ext cx="1366920" cy="55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1441440"/>
            <a:ext cx="9144000" cy="5416560"/>
          </a:xfrm>
          <a:prstGeom prst="rect">
            <a:avLst/>
          </a:prstGeom>
          <a:solidFill>
            <a:srgbClr val="008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9"/>
          <p:cNvSpPr/>
          <p:nvPr/>
        </p:nvSpPr>
        <p:spPr>
          <a:xfrm rot="10800000">
            <a:off x="8423280" y="1341000"/>
            <a:ext cx="720720" cy="8636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11" descr=""/>
          <p:cNvPicPr/>
          <p:nvPr/>
        </p:nvPicPr>
        <p:blipFill>
          <a:blip r:embed="rId2"/>
          <a:stretch/>
        </p:blipFill>
        <p:spPr>
          <a:xfrm>
            <a:off x="239760" y="254160"/>
            <a:ext cx="2162160" cy="880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8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5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lvl="1" marL="743040" indent="-285840">
              <a:lnSpc>
                <a:spcPct val="108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5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lvl="2" marL="1143000" indent="-228600">
              <a:lnSpc>
                <a:spcPct val="108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5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lvl="3" marL="1600200" indent="-228600">
              <a:lnSpc>
                <a:spcPct val="108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5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lvl="4" marL="2057400" indent="-228600">
              <a:lnSpc>
                <a:spcPct val="108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5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lvl="5" marL="2057400" indent="-228600">
              <a:lnSpc>
                <a:spcPct val="108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5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lvl="6" marL="2057400" indent="-228600">
              <a:lnSpc>
                <a:spcPct val="108000"/>
              </a:lnSpc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f5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illis-elt.co.uk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willis-elt.co.uk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hyperlink" Target="http://www.willis-elt.co.uk/taskbased.html" TargetMode="External"/><Relationship Id="rId17" Type="http://schemas.openxmlformats.org/officeDocument/2006/relationships/hyperlink" Target="http://www.willis-elt.co.uk/taskbased.html" TargetMode="External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d4f53"/>
              </a:solidFill>
              <a:latin typeface="Arial"/>
            </a:endParaRPr>
          </a:p>
        </p:txBody>
      </p:sp>
      <p:pic>
        <p:nvPicPr>
          <p:cNvPr id="91" name="Picture 4" descr="View over But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0" y="5516640"/>
            <a:ext cx="91440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ane Will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riter and ELT consul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onorary Visiting Fellow, Aston University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, U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755640" y="333360"/>
            <a:ext cx="734544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 Lexical Approach to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ask-based Language Teach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ome examples of tasks &amp; task sequen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19648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8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Memory challenge – objects on a tray  (teacher led&gt;pairs)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Guess what I’ve got in my bag today!  (teacher led&gt;pairs)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Draw up your ideal school timetable (11-12 year olds)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Plan a class party for the end of term  (mind map &gt; group)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Describe in detail how to make your favourite food; classify dishes, then compare recipes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Earthquake safety – design a leaflet for overseas visitors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124840" cy="5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asks built around texts can extend vocabulary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8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Learners research topics to prepare for (or set) quizzes:  good for any general knowledge topic e.g. snakes, sharks, volcanoes 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358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35880" indent="-335880">
              <a:lnSpc>
                <a:spcPct val="98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Preparation for discussion:  research online (e.g. drugs, local traffic, lifestyles of rock stars...) NB set a specific task to achieve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358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35880" indent="-335880">
              <a:lnSpc>
                <a:spcPct val="98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News and current affairs (e.g. predict from headlines, match headlines to summaries;  compare English and Turkish press reports) 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35880" indent="0">
              <a:lnSpc>
                <a:spcPct val="9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35880" indent="-335880">
              <a:lnSpc>
                <a:spcPct val="98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Recreational reading: report to the class, write a book review.  (Use children’s literature appropriate for adults e.g. Michael Morpurgo,  Roald Dahl short stories…)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Evaluating tasks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484280"/>
            <a:ext cx="852012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Topic:   ‘Cold’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How task-like is this next activity? Use the criteria to evaluate it. (e.g. is there a clear outcome? How engaging is it – would it stimulate much quality interaction?)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alk to your partner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- Have they ever experienced being really, really cold?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- When was the last time they felt very cold?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- Do they prefer being too hot or too cold? 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Arial"/>
              </a:rPr>
              <a:t>&gt;&gt; How could you make this activity more engaging and task-like? 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rom topic to tasks  - designing a task sequence</a:t>
            </a:r>
            <a:br>
              <a:rPr sz="3200"/>
            </a:b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6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ight types of t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7058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d4f53"/>
                </a:solidFill>
                <a:latin typeface="Comic Sans MS"/>
              </a:rPr>
              <a:t>Listing            Ordering &amp; Sorting </a:t>
            </a: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d4f53"/>
                </a:solidFill>
                <a:latin typeface="Comic Sans MS"/>
              </a:rPr>
              <a:t>Matching               Comparing     </a:t>
            </a: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d4f53"/>
                </a:solidFill>
                <a:latin typeface="Comic Sans MS"/>
              </a:rPr>
              <a:t>Problem solving           Predicting   </a:t>
            </a: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d4f53"/>
                </a:solidFill>
                <a:latin typeface="Comic Sans MS"/>
              </a:rPr>
              <a:t>Sharing personal experiences    </a:t>
            </a: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d4f53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4d4f53"/>
                </a:solidFill>
                <a:latin typeface="Comic Sans MS"/>
              </a:rPr>
              <a:t>Projects and creative tasks</a:t>
            </a:r>
            <a:r>
              <a:rPr b="0" lang="en-GB" sz="2800" spc="-1" strike="noStrike">
                <a:solidFill>
                  <a:srgbClr val="4d4f5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16" name="WordArt 7"/>
          <p:cNvSpPr txBox="1"/>
          <p:nvPr/>
        </p:nvSpPr>
        <p:spPr>
          <a:xfrm>
            <a:off x="3760920" y="3357720"/>
            <a:ext cx="1390680" cy="39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OLD</a:t>
            </a:r>
            <a:endParaRPr b="0" lang="en-US" sz="3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0517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i="1" lang="en-GB" sz="3500" spc="-1" strike="noStrike">
                <a:solidFill>
                  <a:srgbClr val="ffffff"/>
                </a:solidFill>
                <a:latin typeface="Arial"/>
              </a:rPr>
              <a:t>The boy who came out from the cold….’</a:t>
            </a:r>
            <a:r>
              <a:rPr b="0" i="1" lang="en-GB" sz="3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4d4f53"/>
                </a:solidFill>
                <a:latin typeface="Arial"/>
              </a:rPr>
              <a:t>Here are the headline and the first twelve words of a story that appeared in The Guardian newspaper: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f53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4d4f53"/>
                </a:solidFill>
                <a:latin typeface="Times New Roman"/>
              </a:rPr>
              <a:t>The boy who came out from the cold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d4f53"/>
                </a:solidFill>
                <a:latin typeface="Times New Roman"/>
              </a:rPr>
              <a:t>A schoolboy who spent the night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d4f53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4d4f53"/>
                </a:solidFill>
                <a:latin typeface="Times New Roman"/>
              </a:rPr>
              <a:t>trapped in a butcher’s cold store …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4d4f53"/>
                </a:solidFill>
                <a:latin typeface="Arial"/>
              </a:rPr>
              <a:t>What do you think happened in the story? Think of five questions that you expect to be answered in the news item. Prepare to tell the class.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asks based on texts – a task seque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196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4d4f53"/>
                </a:solidFill>
                <a:latin typeface="Arial"/>
              </a:rPr>
              <a:t>‘</a:t>
            </a:r>
            <a:r>
              <a:rPr b="0" i="1" lang="en-GB" sz="2400" spc="-1" strike="noStrike">
                <a:solidFill>
                  <a:srgbClr val="4d4f53"/>
                </a:solidFill>
                <a:latin typeface="Arial"/>
              </a:rPr>
              <a:t>The boy that came out of the cold….’  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How might you lead into this text? </a:t>
            </a:r>
            <a:r>
              <a:rPr b="0" lang="en-GB" sz="2000" spc="-1" strike="noStrike">
                <a:solidFill>
                  <a:srgbClr val="009900"/>
                </a:solidFill>
                <a:latin typeface="Arial"/>
              </a:rPr>
              <a:t>Create a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9900"/>
                </a:solidFill>
                <a:latin typeface="Arial"/>
              </a:rPr>
              <a:t>mind-map for cold?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What initial task could you set to engage learners in the text?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00"/>
                </a:solidFill>
                <a:latin typeface="Arial"/>
              </a:rPr>
              <a:t>Give the first few phrases and then ask learners to 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00"/>
                </a:solidFill>
                <a:latin typeface="Arial"/>
              </a:rPr>
              <a:t>predict 5 questions that will be answered in the text (pairs)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What subsequent tasks – to get learners to read,  re-read, retell?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00"/>
                </a:solidFill>
                <a:latin typeface="Arial"/>
              </a:rPr>
              <a:t>Memory challenge: groups retell the story in chronological 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00"/>
                </a:solidFill>
                <a:latin typeface="Arial"/>
              </a:rPr>
              <a:t>order / with factual errors  and compare their versions with others / tell the whole class (who have to spot the errors)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Not just doing tasks…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f53"/>
                </a:solidFill>
                <a:latin typeface="Arial"/>
              </a:rPr>
              <a:t>Tasks on their own are not always sufficient for language development. </a:t>
            </a: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f53"/>
                </a:solidFill>
                <a:latin typeface="Arial"/>
              </a:rPr>
              <a:t>Skehan: fluency at the expense of accuracy; need for ‘pushed output’ and focus on form</a:t>
            </a: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f53"/>
                </a:solidFill>
                <a:latin typeface="Arial"/>
              </a:rPr>
              <a:t>so…</a:t>
            </a: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3640" y="333000"/>
            <a:ext cx="756612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  TBL Framework :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opportunities for noticing, retrieval, generative use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196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Priming &amp; Preparation 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(exploring topic, key words &amp; phrases)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Learner research (+/- glossary), list &amp; define 5 useful words,  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class brainstorm +/- list or mind map (noun phrases + verbs)… 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9900"/>
                </a:solidFill>
                <a:uFillTx/>
                <a:latin typeface="Arial"/>
              </a:rPr>
              <a:t>Task Cycle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Task(s) &gt;&gt; Planning &gt;&gt;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Report of outcome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Planning with input from peers, dictionary, teacher, text… 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Form focus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nalysis and Practice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Exercises highlighting collocations &amp; patterns starting from a frequent word, phrases for concepts, notions, chunks etc;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Exercises extending these (dictionaries for patterns, word cards…)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Evaluating vocabulary activit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196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Ask yourself: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Are the words focused on worth the time the activity takes to do?  (and prepare!) 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Does the activity allow opportunities for one or more of the 3 major processes? (noticing, retrieval, generating)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Does it need to be done in class?  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Am I spending time preparing exercises my learners would gain from preparing? 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Do my learners know how many words they need? Do they realise they will have to do a lot of independent word study to reach appropriate target levels?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Other questions…..   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Vocabulary study – explicit learning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8000"/>
              </a:lnSpc>
              <a:buSzPct val="11428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Select useful </a:t>
            </a:r>
            <a:r>
              <a:rPr b="1" lang="en-GB" sz="1800" spc="-1" strike="noStrike">
                <a:solidFill>
                  <a:srgbClr val="4d4f53"/>
                </a:solidFill>
                <a:latin typeface="Arial"/>
              </a:rPr>
              <a:t>text-book exercises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 for students to do rapidly at home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Select </a:t>
            </a:r>
            <a:r>
              <a:rPr b="1" lang="en-GB" sz="1800" spc="-1" strike="noStrike">
                <a:solidFill>
                  <a:srgbClr val="4d4f53"/>
                </a:solidFill>
                <a:latin typeface="Arial"/>
              </a:rPr>
              <a:t>useful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 words from </a:t>
            </a:r>
            <a:r>
              <a:rPr b="1" lang="en-GB" sz="1800" spc="-1" strike="noStrike">
                <a:solidFill>
                  <a:srgbClr val="4d4f53"/>
                </a:solidFill>
                <a:latin typeface="Arial"/>
              </a:rPr>
              <a:t>end of unit word lists 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for</a:t>
            </a:r>
            <a:r>
              <a:rPr b="1" lang="en-GB" sz="1800" spc="-1" strike="noStrike">
                <a:solidFill>
                  <a:srgbClr val="4d4f53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word cards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;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 advise students how to use their cards; 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(L1/L2, + chunks + drawings, write in pencil, say out loud, re-mix).   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Add words </a:t>
            </a:r>
            <a:r>
              <a:rPr b="1" lang="en-GB" sz="1800" spc="-1" strike="noStrike">
                <a:solidFill>
                  <a:srgbClr val="4d4f53"/>
                </a:solidFill>
                <a:latin typeface="Arial"/>
              </a:rPr>
              <a:t>from other sources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the learners’ own </a:t>
            </a:r>
            <a:r>
              <a:rPr b="1" lang="en-GB" sz="1800" spc="-1" strike="noStrike">
                <a:solidFill>
                  <a:srgbClr val="4d4f53"/>
                </a:solidFill>
                <a:latin typeface="Arial"/>
              </a:rPr>
              <a:t>pedagogic corpus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: i.e.  text book texts, transcripts and other course materials:   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- word searches and hand-concordancing of frequent words (</a:t>
            </a:r>
            <a:r>
              <a:rPr b="0" i="1" lang="en-GB" sz="1800" spc="-1" strike="noStrike">
                <a:solidFill>
                  <a:srgbClr val="009900"/>
                </a:solidFill>
                <a:latin typeface="Arial"/>
              </a:rPr>
              <a:t>that, in, as…);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  learners can set tests for each other / contribute to a test item bank 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buSzPct val="1142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f53"/>
                </a:solidFill>
                <a:latin typeface="Arial"/>
              </a:rPr>
              <a:t>Dictionaries, concordance programmes: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-  for common words -  notice patterns that go with different meanings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and record them ( leaving space to fill in more similar patterns)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-  for topic words - notice collocations &amp; generate definitions, examples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Learners can report on interesting items in class. (motivating)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 lexical approach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highlights 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the most frequent words, phrases and collocations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topic words and phrases that learners may need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encourages rapid vocabulary development from  beginner level upwards  so that learners can engage in meaningful interactions early on. 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So why Task-based Learning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124840" cy="43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TBL provides learners with natural </a:t>
            </a: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exposure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 (input), chances to </a:t>
            </a: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use language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 to express what they want to mean (output), to focus on </a:t>
            </a: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improving their own language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 and to analyse and practise forms.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TBL is more likely to keep learners </a:t>
            </a: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motivated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 since it builds on whatever language they know in a </a:t>
            </a: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positive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 way. Learners are </a:t>
            </a: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actively engaged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 throughout the task cycle, and get chances to think for themselves and express themselves in the security of their group.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Learners become more </a:t>
            </a: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independent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 and feel </a:t>
            </a: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empowered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, gaining satisfaction from successfully achieving things through the FL.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Feed-back from teacher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3640" y="1844280"/>
            <a:ext cx="756612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Willingness to ‘have a go’ in lessons  (Japan)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Learners develop a ‘feel’ for language and for what sounds right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Increased confidence in speaking outside class (Hungary)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Students come to life during the task cycle’ (Japan)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Increased motivation among students (everywhere)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More autonomous learners who are likely to go on learning after their language course.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Useful sites and reading – see handout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f53"/>
                </a:solidFill>
                <a:latin typeface="Arial"/>
              </a:rPr>
              <a:t>And now a final task for your homework: </a:t>
            </a: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98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Which is colder – the North Pole or the South Pole?</a:t>
            </a: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f53"/>
                </a:solidFill>
                <a:latin typeface="Arial"/>
              </a:rPr>
              <a:t>To find out, visit  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willis-elt.co.uk</a:t>
            </a: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f53"/>
                </a:solidFill>
                <a:latin typeface="Arial"/>
              </a:rPr>
              <a:t>-  free lesson plans, articles and useful links</a:t>
            </a: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f53"/>
                </a:solidFill>
                <a:latin typeface="Arial"/>
              </a:rPr>
              <a:t>And try doing some </a:t>
            </a:r>
            <a:r>
              <a:rPr b="0" i="1" lang="en-GB" sz="2800" spc="-1" strike="noStrike">
                <a:solidFill>
                  <a:srgbClr val="4d4f53"/>
                </a:solidFill>
                <a:latin typeface="Arial"/>
              </a:rPr>
              <a:t>Task-based Teaching </a:t>
            </a:r>
            <a:r>
              <a:rPr b="0" lang="en-GB" sz="2800" spc="-1" strike="noStrike">
                <a:solidFill>
                  <a:srgbClr val="4d4f53"/>
                </a:solidFill>
                <a:latin typeface="Arial"/>
              </a:rPr>
              <a:t>with your learners! </a:t>
            </a:r>
            <a:r>
              <a:rPr b="0" lang="en-GB" sz="28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4d4f53"/>
                </a:solidFill>
                <a:latin typeface="Arial"/>
              </a:rPr>
              <a:t>All the very best!  </a:t>
            </a: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illis-elt.co.u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4000" y="1699920"/>
            <a:ext cx="81900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f53"/>
                </a:solidFill>
                <a:latin typeface="Arial"/>
              </a:rPr>
              <a:t>References</a:t>
            </a:r>
            <a:endParaRPr b="0" lang="en-US" sz="14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buSzPct val="1469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Edwards, C. and J. Willis (eds) 2005. </a:t>
            </a:r>
            <a:r>
              <a:rPr b="0" i="1" lang="en-GB" sz="1400" spc="-1" strike="noStrike">
                <a:solidFill>
                  <a:srgbClr val="4d4f53"/>
                </a:solidFill>
                <a:latin typeface="Arial"/>
              </a:rPr>
              <a:t>Teachers Exploring Tasks in ELT</a:t>
            </a: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. Palgrave MacMillan. British Council ELT Innovations Award 2006</a:t>
            </a:r>
            <a:endParaRPr b="0" lang="en-US" sz="14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buSzPct val="1469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Laufer, B. and J. Hulstijn  Incidental vocabulary acquisition in a second language: the construct of task-induced involvement.  </a:t>
            </a:r>
            <a:r>
              <a:rPr b="0" i="1" lang="en-GB" sz="1400" spc="-1" strike="noStrike">
                <a:solidFill>
                  <a:srgbClr val="4d4f53"/>
                </a:solidFill>
                <a:latin typeface="Arial"/>
              </a:rPr>
              <a:t>Applied Linguistics, Mar 2001; 22: 1 - 26. </a:t>
            </a:r>
            <a:endParaRPr b="0" lang="en-US" sz="14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buSzPct val="1469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Leaver, B. and J. R. Willis 2004. </a:t>
            </a:r>
            <a:r>
              <a:rPr b="0" i="1" lang="en-GB" sz="1400" spc="-1" strike="noStrike">
                <a:solidFill>
                  <a:srgbClr val="4d4f53"/>
                </a:solidFill>
                <a:latin typeface="Arial"/>
              </a:rPr>
              <a:t>Task-based Instruction in FLE: practices and programs</a:t>
            </a: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 Georgetown University Press</a:t>
            </a:r>
            <a:endParaRPr b="0" lang="en-US" sz="14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buSzPct val="1469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Nation, I.S.P.</a:t>
            </a:r>
            <a:r>
              <a:rPr b="0" i="1" lang="en-GB" sz="1400" spc="-1" strike="noStrike">
                <a:solidFill>
                  <a:srgbClr val="4d4f53"/>
                </a:solidFill>
                <a:latin typeface="Arial"/>
              </a:rPr>
              <a:t> Learning Vocabulary in Another Language </a:t>
            </a: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Cambridge University Press</a:t>
            </a:r>
            <a:endParaRPr b="0" lang="en-US" sz="14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buSzPct val="1469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Liria, P. (ed) 2009 </a:t>
            </a:r>
            <a:r>
              <a:rPr b="0" i="1" lang="en-GB" sz="1400" spc="-1" strike="noStrike">
                <a:solidFill>
                  <a:srgbClr val="4d4f53"/>
                </a:solidFill>
                <a:latin typeface="Arial"/>
              </a:rPr>
              <a:t>L'approche actionnelle dans l'enseignement des langues</a:t>
            </a: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 SBL</a:t>
            </a:r>
            <a:endParaRPr b="0" lang="en-US" sz="14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buSzPct val="1469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Willis, D. 2003. </a:t>
            </a:r>
            <a:r>
              <a:rPr b="0" i="1" lang="en-GB" sz="1400" spc="-1" strike="noStrike">
                <a:solidFill>
                  <a:srgbClr val="4d4f53"/>
                </a:solidFill>
                <a:latin typeface="Arial"/>
              </a:rPr>
              <a:t>Rules, Patterns and Words: Grammar and Lexis in English Language Teaching</a:t>
            </a: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. Cambridge University Press</a:t>
            </a:r>
            <a:endParaRPr b="0" lang="en-US" sz="14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buSzPct val="1469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Willis. D. and J. Willis 2007. </a:t>
            </a:r>
            <a:r>
              <a:rPr b="0" i="1" lang="en-GB" sz="1400" spc="-1" strike="noStrike">
                <a:solidFill>
                  <a:srgbClr val="4d4f53"/>
                </a:solidFill>
                <a:latin typeface="Arial"/>
              </a:rPr>
              <a:t>Doing Task-based Teaching </a:t>
            </a: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Oxford University Press</a:t>
            </a:r>
            <a:endParaRPr b="0" lang="en-US" sz="14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buSzPct val="14690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Willis, D. and J. Willis (forthcoming) Corpus analysis for a lexical syllabus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in </a:t>
            </a:r>
            <a:r>
              <a:rPr b="0" i="1" lang="en-GB" sz="1400" spc="-1" strike="noStrike">
                <a:solidFill>
                  <a:srgbClr val="4d4f53"/>
                </a:solidFill>
                <a:latin typeface="Arial"/>
              </a:rPr>
              <a:t>The Encyclopedia of Applied Linguistics</a:t>
            </a: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 Wiley Blackwell </a:t>
            </a:r>
            <a:endParaRPr b="0" lang="en-US" sz="14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buSzPct val="14690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Willis, J. 2011 </a:t>
            </a:r>
            <a:r>
              <a:rPr b="0" lang="en-US" sz="1400" spc="-1" strike="noStrike">
                <a:solidFill>
                  <a:srgbClr val="4d4f53"/>
                </a:solidFill>
                <a:latin typeface="Arial"/>
              </a:rPr>
              <a:t>Concordances in the classroom: a D.I.Y. approach to assembling and exploiting concordances of common words.</a:t>
            </a: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  In Tomlinson (ed) </a:t>
            </a:r>
            <a:r>
              <a:rPr b="0" i="1" lang="en-GB" sz="1400" spc="-1" strike="noStrike">
                <a:solidFill>
                  <a:srgbClr val="4d4f53"/>
                </a:solidFill>
                <a:latin typeface="Arial"/>
              </a:rPr>
              <a:t>Materials Development in Language Teaching</a:t>
            </a: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 Second edition, Cambridge University Press.</a:t>
            </a:r>
            <a:endParaRPr b="0" lang="en-US" sz="14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d4f53"/>
                </a:solidFill>
                <a:latin typeface="Arial"/>
              </a:rPr>
              <a:t>Useful websites:</a:t>
            </a:r>
            <a:endParaRPr b="0" lang="en-US" sz="14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buSzPct val="14690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An excellent introductory article on TBL by Richard Frost:  </a:t>
            </a:r>
            <a:endParaRPr b="0" lang="en-US" sz="14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buSzPct val="14690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http://www.teachingenglish.org.uk/think/articles/a-task-based-approach</a:t>
            </a:r>
            <a:endParaRPr b="0" lang="en-US" sz="14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buSzPct val="14690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Four articles on TBL by Jane Willis can be found at: </a:t>
            </a:r>
            <a:endParaRPr b="0" lang="en-US" sz="14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buSzPct val="14690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http://www.teachingenglish.org.uk/think/articles/criteria-identifying-tasks-tbl</a:t>
            </a:r>
            <a:endParaRPr b="0" lang="en-US" sz="14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88000"/>
              </a:lnSpc>
              <a:buSzPct val="146906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d4f53"/>
                </a:solidFill>
                <a:latin typeface="Arial"/>
              </a:rPr>
              <a:t>Free sample task-based lesson plans at  </a:t>
            </a: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</a:t>
            </a: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://www.willis-elt.co.uk/taskbased.html</a:t>
            </a:r>
            <a:endParaRPr b="0" lang="en-US" sz="14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565760" cy="8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Key frequency figures for English</a:t>
            </a:r>
            <a:br>
              <a:rPr sz="26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8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100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f53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50% of all text 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300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f53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65% (grammatical coverage)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700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f53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70% 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3000 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f53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85% (basic competence)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6000 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f53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90% (to read unsimplified text)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15,000 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f53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95% (to read independently)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f53"/>
                </a:solidFill>
                <a:latin typeface="Arial"/>
              </a:rPr>
              <a:t>How do I find these words?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95280" y="620640"/>
            <a:ext cx="8353440" cy="53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d4f53"/>
                </a:solidFill>
                <a:latin typeface="Arial"/>
                <a:ea typeface="Arial"/>
              </a:rPr>
              <a:t>Collins COBUILD English Dictionar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d4f53"/>
                </a:solidFill>
                <a:latin typeface="Arial"/>
                <a:ea typeface="Arial"/>
              </a:rPr>
              <a:t>* * * * *</a:t>
            </a:r>
            <a:r>
              <a:rPr b="1" lang="en-GB" sz="3600" spc="-1" strike="noStrike">
                <a:solidFill>
                  <a:srgbClr val="4d4f53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4d4f53"/>
                </a:solidFill>
                <a:latin typeface="Arial"/>
                <a:ea typeface="Arial"/>
              </a:rPr>
              <a:t>	</a:t>
            </a:r>
            <a:r>
              <a:rPr b="1" lang="en-GB" sz="3600" spc="-1" strike="noStrike">
                <a:solidFill>
                  <a:srgbClr val="4d4f53"/>
                </a:solidFill>
                <a:latin typeface="Arial"/>
                <a:ea typeface="Arial"/>
              </a:rPr>
              <a:t>700 wor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d4f53"/>
                </a:solidFill>
                <a:latin typeface="Arial"/>
                <a:ea typeface="Arial"/>
              </a:rPr>
              <a:t>* * * *</a:t>
            </a:r>
            <a:r>
              <a:rPr b="1" lang="en-GB" sz="3600" spc="-1" strike="noStrike">
                <a:solidFill>
                  <a:srgbClr val="4d4f53"/>
                </a:solidFill>
                <a:latin typeface="Arial"/>
                <a:ea typeface="Arial"/>
              </a:rPr>
              <a:t>	</a:t>
            </a:r>
            <a:r>
              <a:rPr b="1" lang="en-GB" sz="3600" spc="-1" strike="noStrike">
                <a:solidFill>
                  <a:srgbClr val="4d4f53"/>
                </a:solidFill>
                <a:latin typeface="Arial"/>
                <a:ea typeface="Arial"/>
              </a:rPr>
              <a:t>	</a:t>
            </a:r>
            <a:r>
              <a:rPr b="1" lang="en-GB" sz="3600" spc="-1" strike="noStrike">
                <a:solidFill>
                  <a:srgbClr val="4d4f53"/>
                </a:solidFill>
                <a:latin typeface="Arial"/>
                <a:ea typeface="Arial"/>
              </a:rPr>
              <a:t>1000 wor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d4f53"/>
                </a:solidFill>
                <a:latin typeface="Arial"/>
                <a:ea typeface="Arial"/>
              </a:rPr>
              <a:t>* * * </a:t>
            </a:r>
            <a:r>
              <a:rPr b="1" lang="en-GB" sz="3600" spc="-1" strike="noStrike">
                <a:solidFill>
                  <a:srgbClr val="4d4f53"/>
                </a:solidFill>
                <a:latin typeface="Arial"/>
                <a:ea typeface="Arial"/>
              </a:rPr>
              <a:t>	</a:t>
            </a:r>
            <a:r>
              <a:rPr b="1" lang="en-GB" sz="3600" spc="-1" strike="noStrike">
                <a:solidFill>
                  <a:srgbClr val="4d4f53"/>
                </a:solidFill>
                <a:latin typeface="Arial"/>
                <a:ea typeface="Arial"/>
              </a:rPr>
              <a:t>	</a:t>
            </a:r>
            <a:r>
              <a:rPr b="1" lang="en-GB" sz="3600" spc="-1" strike="noStrike">
                <a:solidFill>
                  <a:srgbClr val="4d4f53"/>
                </a:solidFill>
                <a:latin typeface="Arial"/>
                <a:ea typeface="Arial"/>
              </a:rPr>
              <a:t>1500 wor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d4f53"/>
                </a:solidFill>
                <a:latin typeface="Arial"/>
                <a:ea typeface="Arial"/>
              </a:rPr>
              <a:t>* * </a:t>
            </a:r>
            <a:r>
              <a:rPr b="1" lang="en-GB" sz="3600" spc="-1" strike="noStrike">
                <a:solidFill>
                  <a:srgbClr val="4d4f53"/>
                </a:solidFill>
                <a:latin typeface="Arial"/>
                <a:ea typeface="Arial"/>
              </a:rPr>
              <a:t>	</a:t>
            </a:r>
            <a:r>
              <a:rPr b="1" lang="en-GB" sz="3600" spc="-1" strike="noStrike">
                <a:solidFill>
                  <a:srgbClr val="4d4f53"/>
                </a:solidFill>
                <a:latin typeface="Arial"/>
                <a:ea typeface="Arial"/>
              </a:rPr>
              <a:t>	</a:t>
            </a:r>
            <a:r>
              <a:rPr b="1" lang="en-GB" sz="3600" spc="-1" strike="noStrike">
                <a:solidFill>
                  <a:srgbClr val="4d4f53"/>
                </a:solidFill>
                <a:latin typeface="Arial"/>
                <a:ea typeface="Arial"/>
              </a:rPr>
              <a:t>	</a:t>
            </a:r>
            <a:r>
              <a:rPr b="1" lang="en-GB" sz="3600" spc="-1" strike="noStrike">
                <a:solidFill>
                  <a:srgbClr val="4d4f53"/>
                </a:solidFill>
                <a:latin typeface="Arial"/>
                <a:ea typeface="Arial"/>
              </a:rPr>
              <a:t>3000 wor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d4f53"/>
                </a:solidFill>
                <a:latin typeface="Arial"/>
                <a:ea typeface="Arial"/>
              </a:rPr>
              <a:t>* </a:t>
            </a:r>
            <a:r>
              <a:rPr b="1" lang="en-GB" sz="3600" spc="-1" strike="noStrike">
                <a:solidFill>
                  <a:srgbClr val="4d4f53"/>
                </a:solidFill>
                <a:latin typeface="Arial"/>
                <a:ea typeface="Arial"/>
              </a:rPr>
              <a:t>	</a:t>
            </a:r>
            <a:r>
              <a:rPr b="1" lang="en-GB" sz="3600" spc="-1" strike="noStrike">
                <a:solidFill>
                  <a:srgbClr val="4d4f53"/>
                </a:solidFill>
                <a:latin typeface="Arial"/>
                <a:ea typeface="Arial"/>
              </a:rPr>
              <a:t>	</a:t>
            </a:r>
            <a:r>
              <a:rPr b="1" lang="en-GB" sz="3600" spc="-1" strike="noStrike">
                <a:solidFill>
                  <a:srgbClr val="4d4f53"/>
                </a:solidFill>
                <a:latin typeface="Arial"/>
                <a:ea typeface="Arial"/>
              </a:rPr>
              <a:t>	</a:t>
            </a:r>
            <a:r>
              <a:rPr b="1" lang="en-GB" sz="3600" spc="-1" strike="noStrike">
                <a:solidFill>
                  <a:srgbClr val="4d4f53"/>
                </a:solidFill>
                <a:latin typeface="Arial"/>
                <a:ea typeface="Arial"/>
              </a:rPr>
              <a:t>8000 wor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755640" y="1557360"/>
            <a:ext cx="73454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Most frequent words includ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the 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in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is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wi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of 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that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he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and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I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for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to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it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on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h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a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was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you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	</a:t>
            </a:r>
            <a:r>
              <a:rPr b="0" lang="en-GB" sz="3600" spc="-1" strike="noStrike">
                <a:solidFill>
                  <a:srgbClr val="4d4f53"/>
                </a:solidFill>
                <a:latin typeface="Tahoma"/>
                <a:ea typeface="Arial"/>
              </a:rPr>
              <a:t>…w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hree processes that aid retention of lexical item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843120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8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Noticing:  </a:t>
            </a: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giving attention to an item 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(need for motivation &amp; interest; 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value of negotiation, definition) 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Retrieval:</a:t>
            </a: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receptive - retrieving meaning 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lvl="3" marL="1600200" indent="0">
              <a:lnSpc>
                <a:spcPct val="108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or productive - retrieving the form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lvl="3" marL="1600200" indent="0">
              <a:lnSpc>
                <a:spcPct val="108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(value of spaced repetition, incidental learning)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lvl="3" marL="1600200" indent="0">
              <a:lnSpc>
                <a:spcPct val="108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Generative processing and creative use</a:t>
            </a: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(value of retelling, split information tasks)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f53"/>
                </a:solidFill>
                <a:latin typeface="Arial"/>
              </a:rPr>
              <a:t>(Nation 2001:63-74)</a:t>
            </a:r>
            <a:endParaRPr b="0" lang="en-US" sz="16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Learning is affected  by… 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d4f53"/>
                </a:solidFill>
                <a:latin typeface="Arial"/>
              </a:rPr>
              <a:t>degree of ‘task involvement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’        Laufer and Hulstijn 2001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-     need (felt need) for the word; (learner’s attitude important)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 search:  mental / dictionary / glossary;  (+ cognitive effort)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-    evaluation: deciding if word choice is appropriate; (+processing)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o how can Task-based Language Teaching help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5657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… 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how can TBLT help us to create optimum conditions for these three major processes – noticing, retrieval, generative? 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f53"/>
                </a:solidFill>
                <a:latin typeface="Arial"/>
              </a:rPr>
              <a:t>But first – some surprising research findings</a:t>
            </a:r>
            <a:r>
              <a:rPr b="0" lang="en-GB" sz="1600" spc="-1" strike="noStrike">
                <a:solidFill>
                  <a:srgbClr val="4d4f53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90062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c90062"/>
                </a:solidFill>
                <a:latin typeface="Arial"/>
              </a:rPr>
              <a:t>Things that cause interference, impede retrieval and learning:</a:t>
            </a:r>
            <a:endParaRPr b="0" lang="en-US" sz="16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90062"/>
                </a:solidFill>
                <a:latin typeface="Arial"/>
              </a:rPr>
              <a:t>X  pre-teaching lexical sets (e.g. days of week, colours)</a:t>
            </a:r>
            <a:endParaRPr b="0" lang="en-US" sz="16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90062"/>
                </a:solidFill>
                <a:latin typeface="Arial"/>
              </a:rPr>
              <a:t>X  contrastive teaching  (e.g. </a:t>
            </a:r>
            <a:r>
              <a:rPr b="0" i="1" lang="en-GB" sz="1600" spc="-1" strike="noStrike">
                <a:solidFill>
                  <a:srgbClr val="c90062"/>
                </a:solidFill>
                <a:latin typeface="Arial"/>
              </a:rPr>
              <a:t>since</a:t>
            </a:r>
            <a:r>
              <a:rPr b="0" lang="en-GB" sz="1600" spc="-1" strike="noStrike">
                <a:solidFill>
                  <a:srgbClr val="c90062"/>
                </a:solidFill>
                <a:latin typeface="Arial"/>
              </a:rPr>
              <a:t> and </a:t>
            </a:r>
            <a:r>
              <a:rPr b="0" i="1" lang="en-GB" sz="1600" spc="-1" strike="noStrike">
                <a:solidFill>
                  <a:srgbClr val="c90062"/>
                </a:solidFill>
                <a:latin typeface="Arial"/>
              </a:rPr>
              <a:t>for</a:t>
            </a:r>
            <a:r>
              <a:rPr b="0" lang="en-GB" sz="1600" spc="-1" strike="noStrike">
                <a:solidFill>
                  <a:srgbClr val="c90062"/>
                </a:solidFill>
                <a:latin typeface="Arial"/>
              </a:rPr>
              <a:t> ; </a:t>
            </a:r>
            <a:r>
              <a:rPr b="0" i="1" lang="en-GB" sz="1600" spc="-1" strike="noStrike">
                <a:solidFill>
                  <a:srgbClr val="c90062"/>
                </a:solidFill>
                <a:latin typeface="Arial"/>
              </a:rPr>
              <a:t>effective / affective</a:t>
            </a:r>
            <a:r>
              <a:rPr b="0" lang="en-GB" sz="1600" spc="-1" strike="noStrike">
                <a:solidFill>
                  <a:srgbClr val="c90062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90062"/>
                </a:solidFill>
                <a:latin typeface="Arial"/>
              </a:rPr>
              <a:t>X  opposites, near synonyms (if taught together, become stored together)</a:t>
            </a:r>
            <a:endParaRPr b="0" lang="en-US" sz="16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Generally better for learners to meet lexical items in contexts. 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Tasks and TBT can supply meaning-based contexts and memorable associations.</a:t>
            </a: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d4f53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4d4f53"/>
              </a:solidFill>
              <a:latin typeface="Arial"/>
            </a:endParaRPr>
          </a:p>
          <a:p>
            <a:pPr marL="343080" indent="0" algn="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d4f53"/>
                </a:solidFill>
                <a:latin typeface="Arial"/>
              </a:rPr>
              <a:t>&gt;So what do we mean by task?</a:t>
            </a:r>
            <a:endParaRPr b="0" lang="en-US" sz="16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6932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Characteristics of effective tasks: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ive criter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8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Would the activity </a:t>
            </a: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engage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learners’ interest 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and</a:t>
            </a: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 generate quality interaction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98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Is there a primary </a:t>
            </a: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focus on meaning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98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Does it have a </a:t>
            </a: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clear outcome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 for learners to achieve?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98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Is success judged in </a:t>
            </a: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terms of outcome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? Is </a:t>
            </a: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completion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 a priority? 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-343080">
              <a:lnSpc>
                <a:spcPct val="98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Does it relate to </a:t>
            </a:r>
            <a:r>
              <a:rPr b="1" lang="en-GB" sz="2000" spc="-1" strike="noStrike">
                <a:solidFill>
                  <a:srgbClr val="4d4f53"/>
                </a:solidFill>
                <a:latin typeface="Arial"/>
              </a:rPr>
              <a:t>real world</a:t>
            </a: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 activities?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f53"/>
                </a:solidFill>
                <a:latin typeface="Arial"/>
              </a:rPr>
              <a:t>If you can answer YES to all these, it should be an effective task.</a:t>
            </a: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f5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1:04:38Z</dcterms:created>
  <dc:creator>ndikomuj</dc:creator>
  <dc:description/>
  <dc:language>en-US</dc:language>
  <cp:lastModifiedBy>Kenneth Page</cp:lastModifiedBy>
  <dcterms:modified xsi:type="dcterms:W3CDTF">2011-12-23T06:37:15Z</dcterms:modified>
  <cp:revision>124</cp:revision>
  <dc:subject/>
  <dc:title>Slide 1</dc:title>
</cp:coreProperties>
</file>